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ADBD0-42D5-4BD0-9428-2BBFD3E6B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8301D-734B-4296-BE62-CB6D94B74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278C3-2637-4166-A57C-05130E9A0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96561-7897-44E9-A5B5-782EAF3B0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48875-69D8-479B-874F-6885A1374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5A9BD-12F3-40E3-A976-EF3C2D7C5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C38EF-D219-4C43-A998-E1D30D111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03C26-A58C-46CB-BC53-941D28832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7D000-819F-4FB8-A571-BAB21CFF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C86AB-A122-4AE3-A526-7DC617CDD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BDED7-2380-4794-B489-3A6D62443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C5413-FA30-40F2-959C-89A70548B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9A45-F0D6-4BE0-AE9F-899517A3AB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9144000" cy="7398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goal #1: Slide One (oral present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speak in German about your family without using  your notes.  (Extemporaneous speech).</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allowed to have ANY WORDS on this slide!  You may put R &amp; L to remind yourself of left and right.  Because you are not allowed to use prompts, you may keep the level of expression and sentence structure at a more simplified level for the oral portion of your project.  You must point to the people in your family picture (real or fictitious) and tell the class how they are related to you  (use </a:t>
            </a:r>
            <a:r>
              <a:rPr b="1" lang="en-US" sz="1200" spc="-1" strike="noStrike">
                <a:solidFill>
                  <a:srgbClr val="000000"/>
                </a:solidFill>
                <a:latin typeface="Arial"/>
              </a:rPr>
              <a:t>mein/meine)</a:t>
            </a:r>
            <a:r>
              <a:rPr b="0" lang="en-US" sz="1200" spc="-1" strike="noStrike">
                <a:solidFill>
                  <a:srgbClr val="000000"/>
                </a:solidFill>
                <a:latin typeface="Arial"/>
              </a:rPr>
              <a:t>, what their name is and where they are on the picture (oben, unten…). Include the following family member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ister or brother</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si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father</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nt or uncle</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TURE OF SELF</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need to include 3 from this list when you are speaking</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vorne/ob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hinten/unt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in der Mit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rechts</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from this list.  These are all prepositions which need DATIVE after them!!!!</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üb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vo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t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hinter</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ben (links neben/rechts neben</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zwisch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0" y="0"/>
            <a:ext cx="9144000" cy="730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goal #2: Slide 3 (Written portion) (Slide 2 is only a graphic organiz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ell me a little about yourself and your family.</a:t>
            </a:r>
            <a:r>
              <a:rPr b="0" lang="en-US" sz="1200" spc="-1" strike="noStrike">
                <a:solidFill>
                  <a:srgbClr val="000000"/>
                </a:solidFill>
                <a:latin typeface="Arial"/>
              </a:rPr>
              <a:t>  Pretend that you are looking at the picture from slide one.Tell me about yourself and your family.  You must describe the relationship of your family members and their names.  Tell me where some of your family members are.  Use “vor, hinter, neben, zwischen”.  You need to include an adjective in the positive “gern or gut”, a comparative “lieber or besser” and a superlative “am liebsten or am besten”and a form of </a:t>
            </a:r>
            <a:r>
              <a:rPr b="1" lang="en-US" sz="1200" spc="-1" strike="noStrike">
                <a:solidFill>
                  <a:srgbClr val="000000"/>
                </a:solidFill>
                <a:latin typeface="Arial"/>
              </a:rPr>
              <a:t>“UNSER” (our</a:t>
            </a:r>
            <a:r>
              <a:rPr b="0" lang="en-US" sz="1200" spc="-1" strike="noStrike">
                <a:solidFill>
                  <a:srgbClr val="000000"/>
                </a:solidFill>
                <a:latin typeface="Arial"/>
              </a:rPr>
              <a:t>). You need to tell me your name, age, where you are from, a free time activity, favorite subject in school.  The more information you add, the better your grad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requirement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o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Fa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ister or br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Cousi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fa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unt or un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ut/gern</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ieber/besser</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am liebsten/ am best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r/üb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nter/unt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b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wische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nformatio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ge (numbers written ou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free time activit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ubject in schoo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where you are fro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6T18:47:32Z</dcterms:created>
  <dc:creator>udsd</dc:creator>
  <dc:description/>
  <dc:language>en-US</dc:language>
  <cp:lastModifiedBy>Alissa</cp:lastModifiedBy>
  <dcterms:modified xsi:type="dcterms:W3CDTF">2015-04-14T00:57:19Z</dcterms:modified>
  <cp:revision>18</cp:revision>
  <dc:subject/>
  <dc:title>Slide 1</dc:title>
</cp:coreProperties>
</file>